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1F9-18FD-49E7-B35B-F28305D3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E71-BD7F-4D2B-84F3-31DADD20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44C-5470-4C42-A20F-936DD088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0C7-C10C-4D6A-9C46-6A5255D3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D0C-8FBB-4BA3-BFC3-4E021798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0C0-77EA-4B08-8EDB-A966BAF6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5D0-334D-4387-8CA7-4D351039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6B6-AFEE-4FC8-B32E-5BAD1A9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5F0-2CB0-4714-88F3-D5B0045E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20E-7A21-47B7-8669-04B9C9EB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7CD-CBC9-457D-AE3A-6084AFC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62F-6613-440F-B45D-88C4E6B1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4F57-B16A-43A3-8F51-9A80ADC24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58.xml"/><Relationship Id="rId12" Type="http://schemas.openxmlformats.org/officeDocument/2006/relationships/slide" Target="slide59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2.xml"/><Relationship Id="rId16" Type="http://schemas.openxmlformats.org/officeDocument/2006/relationships/slide" Target="slide63.xml"/><Relationship Id="rId17" Type="http://schemas.openxmlformats.org/officeDocument/2006/relationships/slide" Target="slide64.xml"/><Relationship Id="rId18" Type="http://schemas.openxmlformats.org/officeDocument/2006/relationships/slide" Target="slide65.xml"/><Relationship Id="rId19" Type="http://schemas.openxmlformats.org/officeDocument/2006/relationships/slide" Target="slide66.xml"/><Relationship Id="rId20" Type="http://schemas.openxmlformats.org/officeDocument/2006/relationships/slide" Target="slide67.xml"/><Relationship Id="rId21" Type="http://schemas.openxmlformats.org/officeDocument/2006/relationships/slide" Target="slide68.xml"/><Relationship Id="rId22" Type="http://schemas.openxmlformats.org/officeDocument/2006/relationships/slide" Target="slide69.xml"/><Relationship Id="rId23" Type="http://schemas.openxmlformats.org/officeDocument/2006/relationships/slide" Target="slide70.xml"/><Relationship Id="rId24" Type="http://schemas.openxmlformats.org/officeDocument/2006/relationships/slide" Target="slide71.xml"/><Relationship Id="rId25" Type="http://schemas.openxmlformats.org/officeDocument/2006/relationships/slide" Target="slide72.xml"/><Relationship Id="rId26" Type="http://schemas.openxmlformats.org/officeDocument/2006/relationships/slide" Target="slide73.xml"/><Relationship Id="rId27" Type="http://schemas.openxmlformats.org/officeDocument/2006/relationships/slide" Target="slide74.xml"/><Relationship Id="rId28" Type="http://schemas.openxmlformats.org/officeDocument/2006/relationships/slide" Target="slide75.xml"/><Relationship Id="rId29" Type="http://schemas.openxmlformats.org/officeDocument/2006/relationships/slide" Target="slide76.xml"/><Relationship Id="rId30" Type="http://schemas.openxmlformats.org/officeDocument/2006/relationships/slide" Target="slide77.xml"/><Relationship Id="rId31" Type="http://schemas.openxmlformats.org/officeDocument/2006/relationships/slide" Target="slide7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9.xml"/><Relationship Id="rId23" Type="http://schemas.openxmlformats.org/officeDocument/2006/relationships/slide" Target="slide30.xml"/><Relationship Id="rId24" Type="http://schemas.openxmlformats.org/officeDocument/2006/relationships/slide" Target="slide31.xml"/><Relationship Id="rId25" Type="http://schemas.openxmlformats.org/officeDocument/2006/relationships/slide" Target="slide32.xml"/><Relationship Id="rId26" Type="http://schemas.openxmlformats.org/officeDocument/2006/relationships/slide" Target="slide33.xml"/><Relationship Id="rId27" Type="http://schemas.openxmlformats.org/officeDocument/2006/relationships/slide" Target="slide35.xml"/><Relationship Id="rId28" Type="http://schemas.openxmlformats.org/officeDocument/2006/relationships/slide" Target="slide36.xml"/><Relationship Id="rId29" Type="http://schemas.openxmlformats.org/officeDocument/2006/relationships/slide" Target="slide37.xml"/><Relationship Id="rId30" Type="http://schemas.openxmlformats.org/officeDocument/2006/relationships/slide" Target="slide38.xml"/><Relationship Id="rId31" Type="http://schemas.openxmlformats.org/officeDocument/2006/relationships/slide" Target="slide39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371600" y="114300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avantage  y a-t-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apaiser la soi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un médica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990720" y="1143000"/>
            <a:ext cx="73152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bien de tem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ut-on épargn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 on achète un médica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paise la soif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838080" y="99072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e PP ferait-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temps qu’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gnerait s’il prenait 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édicament qui apaise la soif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838080"/>
            <a:ext cx="75438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ronicament, que fait le pil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le PP par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a personne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ut apaiser la soif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066680" y="914400"/>
            <a:ext cx="6934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ù se trou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219320" y="990720"/>
            <a:ext cx="716256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où revient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voit le P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e m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quoi 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914400"/>
            <a:ext cx="6934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cherche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d il voit avec qu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le le PP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066680" y="83808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l jour spéci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-ce quand le P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sur le mu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pilot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étoi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vent …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soi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838080" y="914400"/>
            <a:ext cx="74678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pilot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étoiles aurai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00 millions de…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90720" y="990720"/>
            <a:ext cx="73911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le PP, 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toiles  aurai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00 millions de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914400" y="762120"/>
            <a:ext cx="723888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do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ourner pq sa f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…. Et …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447920" y="1828800"/>
            <a:ext cx="6019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q le sable au lev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jour fait-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 souvenir du PP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143000" y="914400"/>
            <a:ext cx="70866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peut 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P voyage à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planèt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143000" y="990720"/>
            <a:ext cx="70866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ent s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ilote 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P est retourn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z lu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91440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-t-il oublié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914400" y="106668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ne comprendra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grand mystè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99072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est-ce que c’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grand mystè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371600" y="1143000"/>
            <a:ext cx="70102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c précie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t peut-être caché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762120" y="76212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heveux qui tomb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 le front du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990720" y="990720"/>
            <a:ext cx="74674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c sur le to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montr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direction du 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143000" y="1295280"/>
            <a:ext cx="73915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e f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abe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6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143000" y="838080"/>
            <a:ext cx="71629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xtério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personn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cor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990720" y="1066680"/>
            <a:ext cx="73911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liquer la pre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s d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371600" y="114300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ire mon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le seau avec l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lie et la cord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914400" y="914400"/>
            <a:ext cx="75438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ois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ce que fait l’aiguil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s trains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905120" y="289548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épriman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066680" y="1676520"/>
            <a:ext cx="73915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tre da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banqu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souveni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21" name="TADA.WAV" descr=""/>
          <p:cNvPicPr/>
          <p:nvPr/>
        </p:nvPicPr>
        <p:blipFill>
          <a:blip r:embed="rId6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52480" y="1828800"/>
            <a:ext cx="6400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oul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Cit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r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049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Qu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ui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uleu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itatio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rain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77240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ocabulai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7760" y="5794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60200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312588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46497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618336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7707240" y="57913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0">
            <a:hlinkClick r:id="rId32" action="ppaction://hlinksldjump"/>
          </p:cNvPr>
          <p:cNvSpPr/>
          <p:nvPr/>
        </p:nvSpPr>
        <p:spPr>
          <a:xfrm>
            <a:off x="8763120" y="6477120"/>
            <a:ext cx="228600" cy="152280"/>
          </a:xfrm>
          <a:custGeom>
            <a:avLst/>
            <a:gdLst>
              <a:gd name="textAreaLeft" fmla="*/ 70560 w 228600"/>
              <a:gd name="textAreaRight" fmla="*/ 158040 w 22860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morsu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oie le P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sa planè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762120" y="914400"/>
            <a:ext cx="76197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S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Économis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tem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fi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6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8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143000" y="1143000"/>
            <a:ext cx="66294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 cultiv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00 roses d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même jard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trie 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yageurs 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quet de mi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295280" y="1066680"/>
            <a:ext cx="69343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 ébauc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 arbres ressemb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des ch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2514600" y="2057400"/>
            <a:ext cx="4419720" cy="29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i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semble 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447920" y="990720"/>
            <a:ext cx="65530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heure qu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s ont trouv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pu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pu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hari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t …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762120" y="914400"/>
            <a:ext cx="76960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rois part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uits nécess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déguster de l’ea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on que fa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poul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 synony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très rou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066680" y="1143000"/>
            <a:ext cx="7162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serp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désert a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ver du j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990720" y="914400"/>
            <a:ext cx="72388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du vis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 PP quand le pil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ui interroge sur ses proje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066680" y="762120"/>
            <a:ext cx="71629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 couleur du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isage du PP aprè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 convers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vec le serp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us ne notons p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fleurs pq les fleu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nt éphemè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1066680"/>
            <a:ext cx="69343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 puis t’empor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us loin qu’un nav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143000" y="914400"/>
            <a:ext cx="71629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faut bien que 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pporte 2 ou 3 chen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 je veux connaît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apill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066680" y="838080"/>
            <a:ext cx="70866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ne voit bi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’avec le coeu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’essentiel 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isi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990720" y="990720"/>
            <a:ext cx="73911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 est bien plus diffic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se juger soi-mê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de juger autrui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expédi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trai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passager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fo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fa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 cherch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hom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da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ur quel obje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s enf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dent-ils le temp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905120" y="22860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le m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447920" y="1143000"/>
            <a:ext cx="601956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 qu’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nse fai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À l’aven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1981080" y="220968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s pouv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ché, enterr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828800" y="175248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 son des trains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hab, c’est le s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’une tempê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es verbe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e m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uveni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 fin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b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oes the é change to è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 the present tens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l” form of exécuter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y or why no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2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on: Il exécu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"c" is not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llowed by a silent "e"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066680" y="121932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 un produ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i apaise la soif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Administrator</cp:lastModifiedBy>
  <dcterms:modified xsi:type="dcterms:W3CDTF">2010-05-14T10:08:33Z</dcterms:modified>
  <cp:revision>57</cp:revision>
  <dc:subject/>
  <dc:title>No Slide Title</dc:title>
</cp:coreProperties>
</file>